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853-B123-4B21-8D07-982CD3E8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7341-0B53-4077-84C6-96CFA54DC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nstorm - 1 min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6B91-9BB8-4E57-B857-DB1C5122B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nvironment in which we are immersed has changed. Media and technology has changed. The social environment has been altered. The world has become networked and connected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learning design is no longer a formulaic process. It’s a rich engagement of learners and their nee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design is primarily about creating guideposts, not describing how to walk on a particular path. It is a mistaken assumption that design can create learning. The best that a well designed course, workshop, or work-integrated learning resource can offer is the climate in which a learner can choose to lear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424E-2F17-4212-9ED5-9C1D0CB5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nstorm - 5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End of brainst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r Activity ? What drives the learn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23D-B183-44EB-8D03-75BE94BF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CE8-30BE-4F6D-ABAA-E8A11F7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4E2-7EAA-4DF2-BB1B-6739ABF7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8A1-DDC6-4AEA-AD23-D53026C6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2F2-4EAD-40B9-8247-5C6B222C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B3E-F8BF-4669-A978-99602BC3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544-A855-43E5-ABAD-A996820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660-8225-40C7-9E88-562F5FB2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B64-0399-43FA-B72C-B7F14275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213-2BDD-48F4-A160-1C41A12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D58-8E64-43F3-A0B5-CD86C746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A30-FB1B-448D-AF16-42FF3CF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9FF8-0558-4336-9557-ABC5B312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8920" y="174600"/>
            <a:ext cx="990612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Developing Guidelines for effective online classes in f2f, blended and distance education: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Rationale, Process and Outcom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6720" y="209520"/>
            <a:ext cx="469908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that pun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will be able to fix a puncture for a bicycle ty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2f and online (blen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238720" y="209520"/>
            <a:ext cx="472284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identifies and uses the correct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 tube is extra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icient method to find the puncture/s in the tube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ncture site is prepped and is sealed using the correct size patch and g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be is refitted, and the tyre is pumped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re remains inf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y cyc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038240" y="4600440"/>
            <a:ext cx="31845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88920" y="1320840"/>
            <a:ext cx="994248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-learning can manifest itself in four different way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ed self-paced e-learning onli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ed self-paced e-learning offli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-based e-learning synchronously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-based e-learning asynchron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learning may also comprise combinations of the foregoing types of a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6840" y="93600"/>
            <a:ext cx="9464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clusion - Points to rememb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8920" y="7213680"/>
            <a:ext cx="99601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E-Learning - A guidebook of Principles, Procedures and Practices", Som Nai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96920" y="338040"/>
            <a:ext cx="989496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    The critical attributes of e-learning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of time, place and pace of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    E-learning affords opportunities to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  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environments that are authentic, situ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earning context, and also problem- based in order to provide students with “learning by doing” experi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91960" y="7112160"/>
            <a:ext cx="97664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E-Learning - A guidebook of Principles, Procedures and Practices", Som Nai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Learning Design For Dummies: Professional Development Strategies For Beginning Online Design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Oli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h Cowan Universit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radford St, Mt Lawley 6050, Western Australi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Herringt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h Cowan Universit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radford St, Mt Lawley 6050, Western Austra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wen, H. (2008). Collaborating by Design. Paper presented at the EFest 2008 conference. Auckland, 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6320" y="193680"/>
            <a:ext cx="921384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ypes of class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47680" y="914400"/>
            <a:ext cx="11121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2F                          Blended               Distance/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-12600" y="7112160"/>
            <a:ext cx="992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flickr.com/photos/14867878@N04/3372431066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1422360" y="1625760"/>
            <a:ext cx="7693200" cy="18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60560" y="2031840"/>
            <a:ext cx="9667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do they compare ?  (Brainst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Why Learning Desig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3920" y="1321920"/>
            <a:ext cx="6465960" cy="60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environment in which we are now immersed has changed dramatically. The world has become networked and connec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chnology driving pedagogy is a concern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(Design) is more important than cont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 from content to a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44440" y="2470320"/>
            <a:ext cx="6512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  from the learner's perspective?  (Brainst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365120" y="304920"/>
            <a:ext cx="691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Critique real online cours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O  T  A  R  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jectiv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tivit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sour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sess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-33480" y="714240"/>
            <a:ext cx="10193400" cy="6912000"/>
            <a:chOff x="-33480" y="714240"/>
            <a:chExt cx="10193400" cy="6912000"/>
          </a:xfrm>
        </p:grpSpPr>
        <p:sp>
          <p:nvSpPr>
            <p:cNvPr id="61" name="Rectangle 5"/>
            <p:cNvSpPr/>
            <p:nvPr/>
          </p:nvSpPr>
          <p:spPr>
            <a:xfrm>
              <a:off x="-33480" y="714240"/>
              <a:ext cx="20653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Objectives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6"/>
            <p:cNvSpPr/>
            <p:nvPr/>
          </p:nvSpPr>
          <p:spPr>
            <a:xfrm>
              <a:off x="2031840" y="714240"/>
              <a:ext cx="2030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Them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4062240" y="714240"/>
              <a:ext cx="203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6097320" y="714240"/>
              <a:ext cx="2030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8127720" y="714240"/>
              <a:ext cx="2032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Assessment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-33480" y="1506240"/>
              <a:ext cx="206532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2031840" y="1506240"/>
              <a:ext cx="203040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4062240" y="1506240"/>
              <a:ext cx="203508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6097320" y="1506240"/>
              <a:ext cx="203040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4"/>
            <p:cNvSpPr/>
            <p:nvPr/>
          </p:nvSpPr>
          <p:spPr>
            <a:xfrm>
              <a:off x="8127720" y="1506240"/>
              <a:ext cx="203220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>
              <a:off x="8127720" y="714240"/>
              <a:ext cx="2032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8127720" y="1506240"/>
              <a:ext cx="2032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7"/>
            <p:cNvSpPr/>
            <p:nvPr/>
          </p:nvSpPr>
          <p:spPr>
            <a:xfrm>
              <a:off x="8127720" y="7626240"/>
              <a:ext cx="2032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8"/>
            <p:cNvSpPr/>
            <p:nvPr/>
          </p:nvSpPr>
          <p:spPr>
            <a:xfrm>
              <a:off x="-3348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>
              <a:off x="203184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406224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>
              <a:off x="609732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2"/>
            <p:cNvSpPr/>
            <p:nvPr/>
          </p:nvSpPr>
          <p:spPr>
            <a:xfrm>
              <a:off x="812772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3"/>
            <p:cNvSpPr/>
            <p:nvPr/>
          </p:nvSpPr>
          <p:spPr>
            <a:xfrm>
              <a:off x="1015992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4"/>
            <p:cNvSpPr/>
            <p:nvPr/>
          </p:nvSpPr>
          <p:spPr>
            <a:xfrm>
              <a:off x="-33480" y="714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5"/>
            <p:cNvSpPr/>
            <p:nvPr/>
          </p:nvSpPr>
          <p:spPr>
            <a:xfrm>
              <a:off x="-33480" y="714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6"/>
            <p:cNvSpPr/>
            <p:nvPr/>
          </p:nvSpPr>
          <p:spPr>
            <a:xfrm>
              <a:off x="-33480" y="714240"/>
              <a:ext cx="2065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7"/>
            <p:cNvSpPr/>
            <p:nvPr/>
          </p:nvSpPr>
          <p:spPr>
            <a:xfrm>
              <a:off x="-3348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-3348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-3348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20318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20318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203184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-33480" y="150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-33480" y="150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-33480" y="1506240"/>
              <a:ext cx="2065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203184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203184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2031840" y="714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9"/>
            <p:cNvSpPr/>
            <p:nvPr/>
          </p:nvSpPr>
          <p:spPr>
            <a:xfrm>
              <a:off x="40622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40"/>
            <p:cNvSpPr/>
            <p:nvPr/>
          </p:nvSpPr>
          <p:spPr>
            <a:xfrm>
              <a:off x="40622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1"/>
            <p:cNvSpPr/>
            <p:nvPr/>
          </p:nvSpPr>
          <p:spPr>
            <a:xfrm>
              <a:off x="406224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42"/>
            <p:cNvSpPr/>
            <p:nvPr/>
          </p:nvSpPr>
          <p:spPr>
            <a:xfrm>
              <a:off x="203184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3"/>
            <p:cNvSpPr/>
            <p:nvPr/>
          </p:nvSpPr>
          <p:spPr>
            <a:xfrm>
              <a:off x="203184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4"/>
            <p:cNvSpPr/>
            <p:nvPr/>
          </p:nvSpPr>
          <p:spPr>
            <a:xfrm>
              <a:off x="2031840" y="150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45"/>
            <p:cNvSpPr/>
            <p:nvPr/>
          </p:nvSpPr>
          <p:spPr>
            <a:xfrm>
              <a:off x="4062240" y="714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6"/>
            <p:cNvSpPr/>
            <p:nvPr/>
          </p:nvSpPr>
          <p:spPr>
            <a:xfrm>
              <a:off x="4062240" y="714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4062240" y="714240"/>
              <a:ext cx="2035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60973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60973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609732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4062240" y="150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4062240" y="150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4062240" y="1506240"/>
              <a:ext cx="2035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609732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609732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6097320" y="714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81277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58"/>
            <p:cNvSpPr/>
            <p:nvPr/>
          </p:nvSpPr>
          <p:spPr>
            <a:xfrm>
              <a:off x="81277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59"/>
            <p:cNvSpPr/>
            <p:nvPr/>
          </p:nvSpPr>
          <p:spPr>
            <a:xfrm>
              <a:off x="812772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0"/>
            <p:cNvSpPr/>
            <p:nvPr/>
          </p:nvSpPr>
          <p:spPr>
            <a:xfrm>
              <a:off x="609732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61"/>
            <p:cNvSpPr/>
            <p:nvPr/>
          </p:nvSpPr>
          <p:spPr>
            <a:xfrm>
              <a:off x="609732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2"/>
            <p:cNvSpPr/>
            <p:nvPr/>
          </p:nvSpPr>
          <p:spPr>
            <a:xfrm>
              <a:off x="6097320" y="150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63"/>
            <p:cNvSpPr/>
            <p:nvPr/>
          </p:nvSpPr>
          <p:spPr>
            <a:xfrm>
              <a:off x="8127720" y="714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4"/>
            <p:cNvSpPr/>
            <p:nvPr/>
          </p:nvSpPr>
          <p:spPr>
            <a:xfrm>
              <a:off x="8127720" y="714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65"/>
            <p:cNvSpPr/>
            <p:nvPr/>
          </p:nvSpPr>
          <p:spPr>
            <a:xfrm>
              <a:off x="101599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6"/>
            <p:cNvSpPr/>
            <p:nvPr/>
          </p:nvSpPr>
          <p:spPr>
            <a:xfrm>
              <a:off x="101599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67"/>
            <p:cNvSpPr/>
            <p:nvPr/>
          </p:nvSpPr>
          <p:spPr>
            <a:xfrm>
              <a:off x="1015992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68"/>
            <p:cNvSpPr/>
            <p:nvPr/>
          </p:nvSpPr>
          <p:spPr>
            <a:xfrm>
              <a:off x="8127720" y="150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69"/>
            <p:cNvSpPr/>
            <p:nvPr/>
          </p:nvSpPr>
          <p:spPr>
            <a:xfrm>
              <a:off x="8127720" y="150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0"/>
            <p:cNvSpPr/>
            <p:nvPr/>
          </p:nvSpPr>
          <p:spPr>
            <a:xfrm>
              <a:off x="-3348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1"/>
            <p:cNvSpPr/>
            <p:nvPr/>
          </p:nvSpPr>
          <p:spPr>
            <a:xfrm>
              <a:off x="-3348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72"/>
            <p:cNvSpPr/>
            <p:nvPr/>
          </p:nvSpPr>
          <p:spPr>
            <a:xfrm>
              <a:off x="20318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3"/>
            <p:cNvSpPr/>
            <p:nvPr/>
          </p:nvSpPr>
          <p:spPr>
            <a:xfrm>
              <a:off x="20318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74"/>
            <p:cNvSpPr/>
            <p:nvPr/>
          </p:nvSpPr>
          <p:spPr>
            <a:xfrm>
              <a:off x="-33480" y="762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75"/>
            <p:cNvSpPr/>
            <p:nvPr/>
          </p:nvSpPr>
          <p:spPr>
            <a:xfrm>
              <a:off x="-33480" y="762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6"/>
            <p:cNvSpPr/>
            <p:nvPr/>
          </p:nvSpPr>
          <p:spPr>
            <a:xfrm>
              <a:off x="-33480" y="7626240"/>
              <a:ext cx="2065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7"/>
            <p:cNvSpPr/>
            <p:nvPr/>
          </p:nvSpPr>
          <p:spPr>
            <a:xfrm>
              <a:off x="40622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78"/>
            <p:cNvSpPr/>
            <p:nvPr/>
          </p:nvSpPr>
          <p:spPr>
            <a:xfrm>
              <a:off x="40622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9"/>
            <p:cNvSpPr/>
            <p:nvPr/>
          </p:nvSpPr>
          <p:spPr>
            <a:xfrm>
              <a:off x="203184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0"/>
            <p:cNvSpPr/>
            <p:nvPr/>
          </p:nvSpPr>
          <p:spPr>
            <a:xfrm>
              <a:off x="203184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81"/>
            <p:cNvSpPr/>
            <p:nvPr/>
          </p:nvSpPr>
          <p:spPr>
            <a:xfrm>
              <a:off x="2031840" y="762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82"/>
            <p:cNvSpPr/>
            <p:nvPr/>
          </p:nvSpPr>
          <p:spPr>
            <a:xfrm>
              <a:off x="60973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83"/>
            <p:cNvSpPr/>
            <p:nvPr/>
          </p:nvSpPr>
          <p:spPr>
            <a:xfrm>
              <a:off x="60973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84"/>
            <p:cNvSpPr/>
            <p:nvPr/>
          </p:nvSpPr>
          <p:spPr>
            <a:xfrm>
              <a:off x="4062240" y="762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85"/>
            <p:cNvSpPr/>
            <p:nvPr/>
          </p:nvSpPr>
          <p:spPr>
            <a:xfrm>
              <a:off x="4062240" y="762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86"/>
            <p:cNvSpPr/>
            <p:nvPr/>
          </p:nvSpPr>
          <p:spPr>
            <a:xfrm>
              <a:off x="4062240" y="7626240"/>
              <a:ext cx="2035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87"/>
            <p:cNvSpPr/>
            <p:nvPr/>
          </p:nvSpPr>
          <p:spPr>
            <a:xfrm>
              <a:off x="81277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8"/>
            <p:cNvSpPr/>
            <p:nvPr/>
          </p:nvSpPr>
          <p:spPr>
            <a:xfrm>
              <a:off x="81277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89"/>
            <p:cNvSpPr/>
            <p:nvPr/>
          </p:nvSpPr>
          <p:spPr>
            <a:xfrm>
              <a:off x="609732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90"/>
            <p:cNvSpPr/>
            <p:nvPr/>
          </p:nvSpPr>
          <p:spPr>
            <a:xfrm>
              <a:off x="609732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91"/>
            <p:cNvSpPr/>
            <p:nvPr/>
          </p:nvSpPr>
          <p:spPr>
            <a:xfrm>
              <a:off x="6097320" y="762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92"/>
            <p:cNvSpPr/>
            <p:nvPr/>
          </p:nvSpPr>
          <p:spPr>
            <a:xfrm>
              <a:off x="101599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93"/>
            <p:cNvSpPr/>
            <p:nvPr/>
          </p:nvSpPr>
          <p:spPr>
            <a:xfrm>
              <a:off x="101599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4"/>
            <p:cNvSpPr/>
            <p:nvPr/>
          </p:nvSpPr>
          <p:spPr>
            <a:xfrm>
              <a:off x="8127720" y="762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95"/>
            <p:cNvSpPr/>
            <p:nvPr/>
          </p:nvSpPr>
          <p:spPr>
            <a:xfrm>
              <a:off x="8127720" y="762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96"/>
          <p:cNvSpPr/>
          <p:nvPr/>
        </p:nvSpPr>
        <p:spPr>
          <a:xfrm>
            <a:off x="34920" y="1552680"/>
            <a:ext cx="19144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objectiv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r learning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oal may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ready b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stablished i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topic / uni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criptor or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 an elemen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rom a unit or achievemen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7"/>
          <p:cNvSpPr/>
          <p:nvPr/>
        </p:nvSpPr>
        <p:spPr>
          <a:xfrm>
            <a:off x="8283600" y="1552680"/>
            <a:ext cx="18414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y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vidence that i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eeded to show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at student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achieve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specifie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utcomes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assessmen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s derived from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objectives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also b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ied as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formanc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riteria of a uni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andar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8"/>
          <p:cNvSpPr/>
          <p:nvPr/>
        </p:nvSpPr>
        <p:spPr>
          <a:xfrm>
            <a:off x="4106880" y="1552680"/>
            <a:ext cx="1946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at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earners nee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 DO to bridg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gap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twee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bjectives 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sess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inclu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Discussio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Reading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ournalling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Quizz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ject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Web searche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Case studie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Scenario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Role pla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9"/>
          <p:cNvSpPr/>
          <p:nvPr/>
        </p:nvSpPr>
        <p:spPr>
          <a:xfrm>
            <a:off x="34920" y="46080"/>
            <a:ext cx="10090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 A 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0"/>
          <p:cNvSpPr/>
          <p:nvPr/>
        </p:nvSpPr>
        <p:spPr>
          <a:xfrm>
            <a:off x="2090880" y="1552680"/>
            <a:ext cx="1946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caffolding to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vide clear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pectation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instruction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at will gui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earner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rough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it of work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mes link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explai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ources, 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ll any gap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at may no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 covered by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ource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vailabl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sewhe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1"/>
          <p:cNvSpPr/>
          <p:nvPr/>
        </p:nvSpPr>
        <p:spPr>
          <a:xfrm>
            <a:off x="6122880" y="1552680"/>
            <a:ext cx="194652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at learners need to build skills, knowledge 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derstanding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 complete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tivities   and assessments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ubject suppor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inclu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library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Interne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classroom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Pe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ach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ther suppor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inclu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Learning skill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Pastoral ca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16240" y="7087680"/>
            <a:ext cx="6908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flickr.com/photos/bob_conaert/2111372120/ by bob cona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4880" y="399960"/>
            <a:ext cx="9290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Nam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Woo your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udent will be able to make and present a romantic dinner for their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ivery Mod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2f &amp; online (blen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romantic dinner is expl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l takes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conditions required for a romantic dinner are explained and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ner experiences favourable emotions as a result of the 'dinner experience'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175360" y="95400"/>
            <a:ext cx="4832280" cy="4628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-12600" y="203040"/>
            <a:ext cx="521640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urse Nam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Cellphone 1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tudent will demonstrate ability to use a cellphone appropriate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livery Mode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2f &amp; onlin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-12600" y="2641680"/>
            <a:ext cx="510840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vide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wareness of cost/charges demonstra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wareness of health and safety issues demonstrate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-12600" y="4673520"/>
            <a:ext cx="105170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sues around inappropriate use (e.g. txt bullying, use while driving, use in school/workplace explaine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llphone use is demonstrated for voice and txt messag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 features of advanced cellphone use (e.g. calendaring, Web browsing) are demonstrated and the advantages and disadvantages of cellphone use for these applications are explain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324160" y="7112160"/>
            <a:ext cx="7853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flickr.com/photos/spitzgogo/286917522/ by  Spitzgogo_CHEN (Nokia 6230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chel Roberts</cp:lastModifiedBy>
  <dcterms:modified xsi:type="dcterms:W3CDTF">2009-12-06T22:45:29Z</dcterms:modified>
  <cp:revision>3</cp:revision>
  <dc:subject/>
  <dc:title>PowerPoint Presentation</dc:title>
</cp:coreProperties>
</file>